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35F-A067-410F-8159-CAAB41B9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165-57F1-440C-A9D6-B8D0AAF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F56-2383-4EAD-BB6D-D1558EEC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0F5-0E5A-4B9C-B74F-78A1A60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CCC-0AA0-475D-B37F-4D808FE3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DCCA-2095-44E2-94B4-C0F8CFE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D8F-FB69-48AA-A884-297FB28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2C4-A2A3-4DCD-8457-73C186E0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14B7-FC5C-4DDB-8771-14BC43D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13D-AD0B-47DB-B70E-600BA12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D40C-548F-4C30-86DC-BEE8C59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C31-0FD3-48A0-B660-B1290C0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7F2-64A2-4110-B6D4-33A7901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2F04-F210-45F4-AADB-E9F7EC36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B8FD-D4C9-4BDD-91E4-F2F5F74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D73-AB39-4D0D-A8E4-C1ED2A99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64A-A5BF-4D10-82FE-06A69F66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460-C5B9-4BCD-8487-6820CAF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204-A916-458F-A5A0-43B4450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390-4592-4CE2-9904-238AD98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2C5-81D8-4957-8BBF-2603AD77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E46-4F2C-4472-B82A-14BDCC2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81A-62DF-49C4-9B28-DC60B43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12C-1E54-4E14-8A08-9746C26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BC7-7734-450C-BC45-98683EDF4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78B-B3B2-4BFE-A808-2897D0DF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npr.org/news/specials/ruralchina/gallery/gallery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403884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: 1-19 &amp; 2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age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most of China’s people live—in rural or urban are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literacy rate of China?  (Compare to the United States literacy rate. Page 6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BeijingBicycles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0" y="0"/>
            <a:ext cx="4876920" cy="862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19 &amp; 20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Japan Map Quiz due next bloc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4" descr="chinaT1123003"/>
          <p:cNvPicPr/>
          <p:nvPr/>
        </p:nvPicPr>
        <p:blipFill>
          <a:blip r:embed="rId2"/>
          <a:stretch/>
        </p:blipFill>
        <p:spPr>
          <a:xfrm>
            <a:off x="533520" y="41148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7"/>
          <p:cNvSpPr/>
          <p:nvPr/>
        </p:nvSpPr>
        <p:spPr>
          <a:xfrm>
            <a:off x="19810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ur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25146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hina--84% U.S.—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5029200" y="5562720"/>
            <a:ext cx="373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pr.org/news/specials/ruralchina/gallery/galler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[]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roadway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Dream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—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 Have A Dr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at the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Hai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ine—7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 and color 5 illu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t least 2 phrases from MLK’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724280" y="2209680"/>
            <a:ext cx="4419720" cy="1891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for all 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and white all toge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eam will not d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>
            <a:off x="2971440" y="22860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8"/>
          <p:cNvSpPr/>
          <p:nvPr/>
        </p:nvSpPr>
        <p:spPr>
          <a:xfrm>
            <a:off x="-685800" y="762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28600" y="3809880"/>
            <a:ext cx="358128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Ideas for Ha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imination, freedom, MLK, equality, working togeth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228600" y="45720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you turn in your test,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 and complete “I have a Dream” poster.  If finished, turn into HR tray. This poster is due by next Fri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your Chinese Blessing you painted and attach your colored dragon pictu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you want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I will be grading them s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finished with all of the above, you work on the Japan Map Quiz. It is found on the front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www.crystalinks.com/chinawallarge.gif"/>
          <p:cNvPicPr/>
          <p:nvPr/>
        </p:nvPicPr>
        <p:blipFill>
          <a:blip r:embed="rId1"/>
          <a:stretch/>
        </p:blipFill>
        <p:spPr>
          <a:xfrm>
            <a:off x="2362320" y="4038480"/>
            <a:ext cx="4225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28:12Z</dcterms:created>
  <dc:creator>Selena Ramsey</dc:creator>
  <dc:description/>
  <dc:language>en-US</dc:language>
  <cp:lastModifiedBy>poweruser</cp:lastModifiedBy>
  <dcterms:modified xsi:type="dcterms:W3CDTF">2012-01-23T15:55:33Z</dcterms:modified>
  <cp:revision>1230</cp:revision>
  <dc:subject/>
  <dc:title>Agenda Jan. 6, 2006</dc:title>
</cp:coreProperties>
</file>